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A82-6567-424F-B54C-4D47AAD4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217-357E-4CEF-B6FA-972059EB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166-2DA3-4755-88AC-60D47A32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0E7-35BF-4B22-AE0F-AA1DEF65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13C-E005-4FCF-B7D5-74702E23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76BB-0D4B-4E56-9A19-236992C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57D8-FC56-484B-AEA0-332F87F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EBA-85B8-4BA4-A065-FABB751B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61A-5E1A-4520-9EC4-B76D9B0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6185-CC2F-4207-AC4D-31C47450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01D5-3201-4F6E-A653-3B56C5B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249-7A78-4539-85A3-B7114A2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F46C-8695-4B61-8055-D4CC4B90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C4A2-641A-4CD5-9ACD-85EAA064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6733-1FBD-447C-BB5A-408234A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F4F6-F85E-47E0-AD20-C888A793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3D1-9252-4861-A9C0-890C1044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0C5-601F-4A71-B1E7-601D57CC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97B-01DD-48DF-B820-2F5F7AB9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B26-5BC2-4028-9A6D-1254F92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147-F007-4205-A583-D78E1635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03E-28FC-4BE0-84DD-C288DC4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7CF-5570-4B7E-A919-8CF9497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EC8-8DE9-4280-B112-A036C4C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C50-34F9-4D3F-AD00-2A52E39F10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3760" y="2546280"/>
              <a:ext cx="712800" cy="474480"/>
              <a:chOff x="293760" y="2546280"/>
              <a:chExt cx="71280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8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7600" y="2968560"/>
              <a:ext cx="739800" cy="474480"/>
              <a:chOff x="417600" y="296856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2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3D66-DA66-4FAD-BD7D-A0AB0383456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70408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隶书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数学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隶书"/>
              </a:rPr>
              <a:t>》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冀教版九年级上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第二十七章第三节第一课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ahoma"/>
                <a:ea typeface="黑体"/>
              </a:rPr>
              <a:t>过三点的圆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908000" y="5013360"/>
            <a:ext cx="590580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2"/>
          <p:cNvSpPr/>
          <p:nvPr/>
        </p:nvSpPr>
        <p:spPr>
          <a:xfrm>
            <a:off x="2411280" y="2349360"/>
            <a:ext cx="2808360" cy="273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练一练</a:t>
            </a: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钝角三角形的外接圆；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2411280" y="2421000"/>
            <a:ext cx="1873440" cy="1009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284720" y="2421000"/>
            <a:ext cx="934920" cy="115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484360" y="3429000"/>
            <a:ext cx="273528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619280" y="3429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924360" y="213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64000" y="3716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76720" y="3645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476360" y="508464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钝角三角形的外心点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在三角形外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直角三角形的外接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2411280" y="2637000"/>
            <a:ext cx="2808360" cy="2736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3780000" y="2637000"/>
            <a:ext cx="0" cy="27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3780000" y="2637000"/>
            <a:ext cx="1296720" cy="20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 flipV="1">
            <a:off x="3780000" y="4581000"/>
            <a:ext cx="1296720" cy="79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3780000" y="3933720"/>
            <a:ext cx="71280" cy="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419640" y="220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419640" y="54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076720" y="45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34800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940360" y="292428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直角三角形的外心是斜边的中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2"/>
          <p:cNvSpPr/>
          <p:nvPr/>
        </p:nvSpPr>
        <p:spPr>
          <a:xfrm>
            <a:off x="3276720" y="4149720"/>
            <a:ext cx="3024000" cy="2708280"/>
          </a:xfrm>
          <a:prstGeom prst="ellipse">
            <a:avLst/>
          </a:prstGeom>
          <a:solidFill>
            <a:srgbClr val="00e4a8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126828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解决问题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圆形梳妆镜因不慎破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你用图中破碎镜子的碎片作出和原来大小一样的镜子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何确定圆心才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破镜重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571920" y="3692520"/>
            <a:ext cx="2539800" cy="2291040"/>
            <a:chOff x="3571920" y="3692520"/>
            <a:chExt cx="2539800" cy="2291040"/>
          </a:xfrm>
        </p:grpSpPr>
        <p:sp>
          <p:nvSpPr>
            <p:cNvPr id="208" name="Arc 6"/>
            <p:cNvSpPr/>
            <p:nvPr/>
          </p:nvSpPr>
          <p:spPr>
            <a:xfrm flipH="1" flipV="1" rot="3807600">
              <a:off x="4080240" y="3798360"/>
              <a:ext cx="1522440" cy="2078640"/>
            </a:xfrm>
            <a:prstGeom prst="pie">
              <a:avLst/>
            </a:prstGeom>
            <a:noFill/>
            <a:ln w="50760">
              <a:solidFill>
                <a:srgbClr val="3333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3635280" y="4681440"/>
              <a:ext cx="2322360" cy="811080"/>
            </a:xfrm>
            <a:prstGeom prst="pie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8"/>
          <p:cNvSpPr/>
          <p:nvPr/>
        </p:nvSpPr>
        <p:spPr>
          <a:xfrm>
            <a:off x="3635280" y="4581360"/>
            <a:ext cx="71640" cy="14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4572000" y="4149720"/>
            <a:ext cx="71280" cy="14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5796000" y="4508640"/>
            <a:ext cx="71280" cy="14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3708360" y="4221000"/>
            <a:ext cx="86364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4643280" y="4221000"/>
            <a:ext cx="122400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4572000" y="4076280"/>
            <a:ext cx="720720" cy="20890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3995640" y="4149720"/>
            <a:ext cx="1152720" cy="2232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132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4572000" y="36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15636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4716360" y="5516640"/>
            <a:ext cx="71640" cy="14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003640" y="5373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84360" y="68580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       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6920" y="16002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经过三个点一定可以做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62120" y="2421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任意一个三角形一定有一个外接圆，并且只有一个外接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5800" y="3716280"/>
            <a:ext cx="84582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三角形的外心到三角形各顶点的距离相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角形的外心在三角形的外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427640" y="29242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1547640" y="429264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804000" y="1628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7596360" y="5084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12193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已知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直角三角形的两条直角边的长分别是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，求它的外接圆的直径和面积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16000" y="386064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解：根据勾股定理得，斜边为１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因为斜边是直角三角形外接圆直径所以外接圆直径为</a:t>
            </a:r>
            <a:r>
              <a:rPr b="0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10,</a:t>
            </a: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面积为</a:t>
            </a:r>
            <a:r>
              <a:rPr b="0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25π</a:t>
            </a:r>
            <a:r>
              <a:rPr b="0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小结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这节课有什么收获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547640" y="306864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、不在同一直线上的三点确定一个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547640" y="378936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、三角形外接圆的圆心叫三角形的外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　　三角形的外心是三角形三边垂直平分线的交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　　三角形的外心到三角形三个顶点的距离相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达标检测题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填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过一点可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圆；过两点可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圆；经过不共线三点可以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过三角形各顶点的圆叫三角形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钝角三角形外心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锐角三角形外心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外心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直角三角形两边长分别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则外接圆半径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419640" y="2421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093080" y="2492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580000" y="29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77080" y="3357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外接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788000" y="38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三角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050920" y="4365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三角形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 flipH="1" flipV="1" rot="10800000">
            <a:off x="6586920" y="436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新魏"/>
              </a:rPr>
              <a:t>斜边中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564000" y="530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华文新魏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选择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三角形的外心是三角形（　　）的交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条中线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边垂直平分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条高线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条角平分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若三角形三边长分别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则外接圆直径为（　　）厘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084720" y="4508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37236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611280" y="76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已知等边三角形的边长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求三　　　　　　角形的外接圆半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: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三个村庄位置如图，现要修建一个水塔， 使三个村到水塔的距离相等。请画出水塔的位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87280" y="4149720"/>
            <a:ext cx="3581280" cy="1526400"/>
            <a:chOff x="1187280" y="4149720"/>
            <a:chExt cx="3581280" cy="1526400"/>
          </a:xfrm>
        </p:grpSpPr>
        <p:sp>
          <p:nvSpPr>
            <p:cNvPr id="252" name="Oval 4"/>
            <p:cNvSpPr/>
            <p:nvPr/>
          </p:nvSpPr>
          <p:spPr>
            <a:xfrm>
              <a:off x="2711160" y="4149720"/>
              <a:ext cx="7632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"/>
            <p:cNvSpPr/>
            <p:nvPr/>
          </p:nvSpPr>
          <p:spPr>
            <a:xfrm>
              <a:off x="1720800" y="514044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6"/>
            <p:cNvSpPr/>
            <p:nvPr/>
          </p:nvSpPr>
          <p:spPr>
            <a:xfrm>
              <a:off x="3625560" y="5064120"/>
              <a:ext cx="76320" cy="76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2025360" y="4149720"/>
              <a:ext cx="30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"/>
            <p:cNvSpPr/>
            <p:nvPr/>
          </p:nvSpPr>
          <p:spPr>
            <a:xfrm>
              <a:off x="1187280" y="5140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"/>
            <p:cNvSpPr/>
            <p:nvPr/>
          </p:nvSpPr>
          <p:spPr>
            <a:xfrm>
              <a:off x="3930480" y="521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10"/>
          <p:cNvSpPr/>
          <p:nvPr/>
        </p:nvSpPr>
        <p:spPr>
          <a:xfrm>
            <a:off x="1116000" y="380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ahoma"/>
              </a:rPr>
              <a:t>拓展题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6348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999440" y="5560920"/>
            <a:ext cx="28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经过四点能否作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332000" y="598320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答：有时能，有时不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5308920" y="173988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答案：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7380360" y="191628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9640" y="1557360"/>
            <a:ext cx="800100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有圆形梳妆镜因不慎破碎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请你用图中破碎镜子的碎片作出和原来大小一样的镜子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如何确定圆心才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破镜重圆”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111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304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3333ff"/>
                </a:solidFill>
                <a:latin typeface="Tahoma"/>
              </a:rPr>
              <a:t>请同学们来解决一个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 rot="21390600">
            <a:off x="844560" y="5392440"/>
            <a:ext cx="2789280" cy="1009440"/>
          </a:xfrm>
          <a:prstGeom prst="cloudCallout">
            <a:avLst>
              <a:gd name="adj1" fmla="val 129875"/>
              <a:gd name="adj2" fmla="val -732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854680" y="3800520"/>
            <a:ext cx="2539800" cy="2291040"/>
            <a:chOff x="5854680" y="3800520"/>
            <a:chExt cx="2539800" cy="2291040"/>
          </a:xfrm>
        </p:grpSpPr>
        <p:sp>
          <p:nvSpPr>
            <p:cNvPr id="105" name="Arc 6"/>
            <p:cNvSpPr/>
            <p:nvPr/>
          </p:nvSpPr>
          <p:spPr>
            <a:xfrm flipH="1" flipV="1" rot="3807600">
              <a:off x="6363000" y="3906360"/>
              <a:ext cx="1522440" cy="2078640"/>
            </a:xfrm>
            <a:prstGeom prst="pie">
              <a:avLst/>
            </a:prstGeom>
            <a:noFill/>
            <a:ln w="50760">
              <a:solidFill>
                <a:srgbClr val="3333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918040" y="4789440"/>
              <a:ext cx="2322360" cy="811080"/>
            </a:xfrm>
            <a:prstGeom prst="pie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04920" y="2211480"/>
            <a:ext cx="8839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333ff"/>
                </a:solidFill>
                <a:latin typeface="Times New Roman"/>
                <a:ea typeface="隶书"/>
              </a:rPr>
              <a:t>过三点的圆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268360" y="2205000"/>
            <a:ext cx="2210040" cy="2209680"/>
          </a:xfrm>
          <a:prstGeom prst="ellipse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609560" y="2070000"/>
            <a:ext cx="1600200" cy="160020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2324160" y="2146320"/>
            <a:ext cx="3352680" cy="335268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2219400" y="359424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763640" y="3573360"/>
            <a:ext cx="1752840" cy="1752840"/>
          </a:xfrm>
          <a:prstGeom prst="ellipse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152360" y="33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012000" y="2276640"/>
            <a:ext cx="273672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任选一点为圆心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除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外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),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以这点到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距离为半径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这样的圆有无数个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-==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活动一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经过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点画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057400" y="3048120"/>
            <a:ext cx="2209680" cy="2209680"/>
          </a:xfrm>
          <a:prstGeom prst="ellipse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590920" y="4267080"/>
            <a:ext cx="1143000" cy="114300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733400" y="2381400"/>
            <a:ext cx="2895840" cy="289548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324160" y="3657600"/>
            <a:ext cx="1752480" cy="167652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590920" y="5105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193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8098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743200" y="5181480"/>
            <a:ext cx="9907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 flipV="1">
            <a:off x="3189240" y="2057040"/>
            <a:ext cx="0" cy="5638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003640" y="3068640"/>
            <a:ext cx="365760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过两点可以作无数个圆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这些圆的圆心都在线段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B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垂直平分线上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.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Z][[xx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80880" y="6094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5400" spc="-1" strike="noStrike">
                <a:solidFill>
                  <a:srgbClr val="3333ff"/>
                </a:solidFill>
                <a:latin typeface="Tahoma"/>
              </a:rPr>
              <a:t>活动二</a:t>
            </a:r>
            <a:r>
              <a:rPr b="1" lang="en-US" sz="54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经过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 . B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两点画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8962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活动三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5400"/>
            </a:b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议一议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经过点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画圆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76360" y="27813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个点有几种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4941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个点不在同一条直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19280" y="37162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个点在同一条直线上：不能确定一个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79328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注意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经过同一条直线上的三个点不能作圆</a:t>
            </a: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340000" y="342900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908000" y="4653000"/>
            <a:ext cx="460872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284720" y="4581360"/>
            <a:ext cx="7308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195640" y="4581360"/>
            <a:ext cx="72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435640" y="4581360"/>
            <a:ext cx="7308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050920" y="47242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067280" y="472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435640" y="4724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3276720" y="3789000"/>
            <a:ext cx="0" cy="2376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4932360" y="3789000"/>
            <a:ext cx="0" cy="2376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58920" y="1125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试过同一直线上的三个点作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1295280" y="1981080"/>
            <a:ext cx="3962520" cy="396252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 flipV="1">
            <a:off x="1828800" y="5105520"/>
            <a:ext cx="3105000" cy="568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3228840" y="365760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 flipH="1">
            <a:off x="1722960" y="2073240"/>
            <a:ext cx="970920" cy="31305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 flipH="1" flipV="1">
            <a:off x="768240" y="3170160"/>
            <a:ext cx="3035520" cy="10144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 flipV="1">
            <a:off x="2665800" y="2043360"/>
            <a:ext cx="2246760" cy="30729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2266920" y="2540160"/>
            <a:ext cx="3010320" cy="20779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763640" y="1700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042920" y="530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932360" y="537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629080" y="2076480"/>
            <a:ext cx="75960" cy="763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4838760" y="5124600"/>
            <a:ext cx="76320" cy="759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714680" y="5124600"/>
            <a:ext cx="75960" cy="759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3181320" y="392436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20040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04920" y="3650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定理：不在同一条直线上的三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确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一个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580000" y="2060640"/>
            <a:ext cx="31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两个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　　过三角形三个顶点的圆叫三角形的外接圆，外接圆的圆心叫三角形的外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2700360" y="2133720"/>
            <a:ext cx="503280" cy="1800000"/>
          </a:xfrm>
          <a:prstGeom prst="line">
            <a:avLst/>
          </a:prstGeom>
          <a:ln w="475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 flipH="1">
            <a:off x="1763640" y="3933720"/>
            <a:ext cx="1440000" cy="1224000"/>
          </a:xfrm>
          <a:prstGeom prst="line">
            <a:avLst/>
          </a:prstGeom>
          <a:ln w="475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3203640" y="3933720"/>
            <a:ext cx="1655640" cy="1150920"/>
          </a:xfrm>
          <a:prstGeom prst="line">
            <a:avLst/>
          </a:prstGeom>
          <a:ln w="475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已知△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BC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，作△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BC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的外接圆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3816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分别作线段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，设两线相交于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圆心，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为半径画圆，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为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外接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292720" y="2349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4572000" y="1916280"/>
            <a:ext cx="3962520" cy="3962160"/>
          </a:xfrm>
          <a:prstGeom prst="ellipse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 flipV="1">
            <a:off x="5105520" y="5040000"/>
            <a:ext cx="3105000" cy="5724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999320" y="2008080"/>
            <a:ext cx="970920" cy="31305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 flipV="1">
            <a:off x="5942160" y="1978200"/>
            <a:ext cx="2246760" cy="30729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 flipV="1">
            <a:off x="6483240" y="3108600"/>
            <a:ext cx="39600" cy="2557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932360" y="1844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500720" y="522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5905440" y="2011320"/>
            <a:ext cx="76320" cy="763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8115480" y="5059440"/>
            <a:ext cx="75960" cy="759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4991040" y="5059440"/>
            <a:ext cx="76320" cy="759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6458040" y="3859200"/>
            <a:ext cx="7596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477120" y="3973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 flipH="1" flipV="1">
            <a:off x="4294080" y="3138480"/>
            <a:ext cx="3035520" cy="10144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244000" y="51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2:11:54Z</dcterms:created>
  <dc:creator>Administrator</dc:creator>
  <dc:description/>
  <dc:language>en-US</dc:language>
  <cp:lastModifiedBy>User</cp:lastModifiedBy>
  <dcterms:modified xsi:type="dcterms:W3CDTF">2014-05-18T07:45:01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